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44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10880" y="725400"/>
            <a:ext cx="483228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182160"/>
            <a:ext cx="29703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760" y="9182160"/>
            <a:ext cx="29700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82EE-3938-4702-A642-DD2EF0850E8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 wurden im Rahmen der ökologischen Steuerreform als besonders förderungswürdig eingest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ährend konventionell erzeugte Energie verteuert wurde, erhalten die Betreiber von Mini-BHKWs beträchtliche staatliche Zuschüsse und steuerliche Vorteil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efreiung von der Stromsteuer: 2,0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en selbst erzeugten und genutzten Stro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tattung der Mineralölsteuer: 0,5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as im BHKW eingesetzte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etwa 15 bis 20 % des Gaspreis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üssiggas 60,0 €/1000 k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onus von 5,11 Cent/kWh zusätzlich zur gesetzlich festgelegten 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rd vom örtlichen Energieversorgungsunternehmen gezah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geben von der Kreditanstalt für Wiederaufbau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bäudesanierungsprogramm oder CO2-Mind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eine gewerbliche Nutzung Förderung durch das KfW-Umweltprogramm möglich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durc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ringere Strom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ergeben sich aus dem Erlö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Je höher die Betriebsstundenzahl des Mini-BHKWs im Jahr ist, umso größer ist auch der Erlös au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ie patentierte Leistungsmodulation des ecopower Mini-BHKWs ermöglicht eine bis zu 60% höhere Stromproduktion als Geräte mit konstanter Leistung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eiber profitieren von steigenden Stromprei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gesparte Stromkosten liegen höher als die Einspeise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ier ergibt sich der Erlös aus der Einsparung, die dadurch erzielt wird, dass der Strom nicht beim Versorger gekauft werden muss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Je höher die Preise, desto höher die Einspa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etzlich festgelegte Einspeisevergütung steigt ebenfalls mit dem Strompreis (Stand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3. Quartal 2005: 4,387 Euro-Cent je Kilowattstund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leichzeitig muss die produzierte Wärme für einen energiesparenden Betrieb mitgenutz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Gebäude mit ausreichend hohem ganzjährigen Strom- und Wärmebedarf sind für den Mini-BHKW Einsatz geeign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ubau und Modernisierung v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, 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itere Gebäude mit ganzjährigem Strom- und Wärmebedarf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finition nach §3 KWKModG: „Gleichzeitig Umwandlung von eingesetzter Energie in elektrische Energie und Nutzwärme in einer ortsfesten technischen Anlage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chanische Energie des Motors wird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lektrische Energie umgewandelt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ung der entstehenden Abwärme zur Heizung und Warmwasserberei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ttenwärmetauscher koppeln die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Generator, im Motorkühlwasser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d –öl enthaltene Wärme au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r zusätzlicher Wärmegewinn durch Brennwerttechnik auf Erdga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passung der Mini-BHKW-Leistung an den tatsächlichen 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öglich durch variable Motor-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hindert vorzeitiges Abschalten des Mini-BHKWs aufgrund zu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re Wartungskosten durch reduzierte Motortak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 höhere Anzahl von Betriebsstunden pro Jahr als bei Geräten mit konstanter 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hrt zu einer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rtschaftlicher Einsatz auch in Objekten mit geringerem 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konstant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Mini-BHKW liefert nur ein Drittel der maximalen geforderten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onstante thermische und elektrische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ohe Taktung des Motors, insbesondere bei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ank Modulation können auch niedrigere Wärmemengen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im monovalenten Betrie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ie geforderte Wärmemenge kann vollständig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ein Spitzenlastkessel nöti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s und kostensparendes System für dezentrale Strom- und Wärme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eizung, Warmwasser und Strom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einem 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t patentierter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lektr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1,3 bis 4,7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herm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4,0 bis 12,5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Wirtschaftlich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Wirkungsgrad über den gesamten Leistungsbere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assergekühlter Permanentmagnet-Generator zur Strom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irekt am Motorblock befestig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gelung der Motordrehzahl erfolgt über die Last des Generator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tor nutzt immer das optimale Drehmome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icht über Drosselklappe (siehe Motortechnik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eistungselektronik mit Pulsweitenmodul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 Drehzahl variierende Wechselspannung des Generators wird in netzsynchronen dreiphasigen Wechselstrom um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peziell entwickelter, wassergekühlter Gas-Verbrennungsmo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Erdgas oder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ales Leistungsvermögen durch immer vollständig geöffnete Drosselklapp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durch auch im Teillastbetrieb eine maximale Leistungsausbeu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rosselklappe mindert im geschlossenen oder teilgeschlossenen Zustand die Effizi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iedrige Emissionswerte durch Drei-Wege-Katalysator mit Lambda-Rege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genwärtig wirkungsvollstes Katalysatoren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gaswerte liegen 50% unter den Vorgaben der TA-L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ydraulische Stößel erübrigen die Ventileinstel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schleißfreier und geräuscharmer Start über den Genera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eduzierte Wartungs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sser und Batteri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tungsintensive Bauteile, daher reduzierte Wartungskosten und –auf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urch ein genau auf das Startverhalten abgestimmtes Startprogramm erse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rhöhte Betriebs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ssere Widerstandsfähigkeit gegenüber Umwelteinflü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et auch unter erschwerten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.B. bei stark schwankender Gasqualität, hohem Luftdruck oder extremen Temperat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zu komm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utlich sanfteres Startverhal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ringerer Energieverbrauch in der Startphas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 4-zeiliges Display mittels Dreh-/Druckknop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lle wichtigen Betriebswerte direkt abruf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pezielles Wärme- und Schalldämmgehäu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äuscharmer Betrieb und geringe Wärme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ntspricht höchsten Sicherheitsvorschriften (CE-Zertifiziert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uropa und Deutschl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prüft nach der strengen europäischen Gasgeräterichtlin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arallelbetrieb mehrerer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Objekten mit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 Geräte übernimmt die Steuerung der nachgeschalteten Mini-BHKWs (Master/Slave-Betrieb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exible Aufrüstung bei gestiegenem Energiebrau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arke Energieversorgung für netzfreie Gebie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ichere Stromversorgung in Netz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arbeitet das ganze Jahr über als Strom- und Wärmeerzeuger und schaltet nur im Bedarfsfall auf den Notstrombetrieb um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vestitions-, Betriebs- und Wartungskosten für separates Notstromaggregat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sätzlich zum ecopower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wechselrichter zum Aufbau eines ein- oder dreiphasigen Strom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anlage zur Stromspeich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ühler zur Abführung der überschüssigen Wärme, die nicht mehr vom Speicher aufgenommen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facher und schneller Zug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 einem erfolgversprechenden Geschäftsfel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SHK- und Elektro- Hand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Umfassende Unterstüt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allen Bereichen des BHKW-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ulung und Qualifiz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nungsunterstützung und technische Bera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oftwarepaket für Inbetriebnahme und 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ttbewerbsvorteil: 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einziges Mini-BHKW a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gereiftes, fortschrittlich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rund- bzw. Mittellastabdeckung durch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HKW Kann auch außerhalb der Heizperiode mit höchstmöglicher Leistung lauf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deckung von Spitzenlasten durch zusätzlichen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ärmespeicher zur Optimierung der BHKW-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Stromanforderung anfallende Wärme wird im Speicher vorgehalten und später bei Bedarf genutz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novalenter Betrieb bei ausreichend großem Pufferspeicher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as Stromnetz erfolgt in den meisten Fällen netzparall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lockheizkraftwerk wird an das lokale Stromnetz angeschlossen und speist überschüssigen Strom ei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ückspeisezähler wird zusätzlich zum Bezugszähler installiert, damit der eingespeiste Strom vergütet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m Generator erzeugte Wechselspannung variiert je nach der momentanen Motor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Über die Leistungselektronik wird die Spannung deshalb zunächst gleich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d mit dem Aufwärtswandler in eine höhere Ausgangsspannung gewande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n Wechselrichter mit nachgeschaltetem Netzfilter formt diese in netzsynchronen dreiphasigen Wechselstrom u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nschlussfertige Lief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 Verbindungen an der Geräterück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Anlieferung und Einbringung durch geringes Gewich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200 Kg leichter als der Wettbewer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fstellung und Anschlussarbeiten 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e bei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ie Hydraulik des Heizungssystems,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stallation einer Gasanlage und Anschluss an die Gasregelstrecke des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lation der Abgasanla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etzanschluss kann von jedem Elektrofachmann durchgeführ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rd mit einer 5 x 1,5 mm²-Leitung über eine allpolige Trennstelle (L1, L2, L3, N) ausgefüh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bgesichert wird die Zuleitung mit 3 x 10 A; falls vom EVU vorgeschrieben, ergänzt durch einen Neutralleiter-Tren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Inbetriebnahme mit ecoServ Softwa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genkonfiguration bei der Anlieferung bereits voreingestel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5-1998 Produktentwicklung in der Schwei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Rahmen des Hybrid-Antriebs für den Sma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wickler/Erfinder Herr Daniel Ryhi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totyp 1995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7, 1998 Anpassung an die Marktbedürfnisse (Redesign um das Produkt flexibler einsetzbar zu machen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8, 1999 Vorser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Übernah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itt als 100%ige Tochter der Vaillant Group die Nachfolge der Valentin Energie- und Umwelttechnik GmbH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matische Anpassung an den Energiebedarf des Objek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ein Regelaufwand für den Betreib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rechnung der optimalen Motordrehzahlen nach Heizkurve, zu erwartendem Strombedarf und Außentemperatu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ermanente Auswertung der Betriebsda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Integrierte selbstlernfähige Speicherbewirtschaf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Brauchwasseraufbereitung und Legionellenschutzfun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e Ausnutzung des Modulationsbereich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ch im Teillastbetrieb Wirkungsgrad von über 90 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gen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erkennt selbstständig falsche hydraulische Einbind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mmt den Betrieb erst wieder auf, wenn der Fehler behoben worden ist.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 Stillstandsverluste durch direkte Ansteuerung des Spitzenlast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aster/Slave-Betrieb mehrerer Anlagen bei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 alle 4000 Betriebsstunden bzw. einmal im Ja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chsel von Öl, Filtern und Zündkerze sowie Abgasmess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mfortable Wartungssoftware ecoServ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frage und Anpassung von Betriebszuständen und Anlagenfunktionen per Fernüberwach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kulierbare Kosten für Wartung und Instandhal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fiziert und zertifiz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hrtägige Schu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rittweise Ausweitung der Kompetenzen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ßendienst neu organis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zahl der Vertriebsmitarbeiter und der technischen Berater deutlich erhöht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elle Betreu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Berater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Vertriebsingenie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kaufsberater zur Kontaktaufnahme und Inform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triebsingenieure als kompetente Ansprechpartne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Service-Hotlin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i allen Fragen rund um bereits im Betrieb befindliche Mini-BHKWs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 – Do 7:00 bis 19:00 U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 bis 17:00 Uhr; Sa 10:00 bis 17:00 Uh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Heizperiode von September bis Apri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ndesweit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rkskundendiens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Service-Stützpunkt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örungsbeseitigung, Inbetriebnahme und Wartungsarb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s geht um die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ntinuierliche Sicherung der Produkt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wesentliche Geschäft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Hilfe der eigenen Engineering-Kompet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prüfung der Produktleistung unter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nger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ehleranaly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plementierung der Ergebnisse in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besserung von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ende Produkt-Upda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au Ölkühler, Software Update, Neuer Abgasschalldämpfer, Reduzierung von Ablagerungen durch beschichtete Ventile, Erhöhung der Lebensdauer der Schwingungsdämpfer, Einbau MES Öldruckschal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e Ziele für dieses Jahr: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s Fachpartner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bau neuer Handwerksbetriebe als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umfassende Betreuung in allen Bereichen des BHKW- 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r, schneller Einstie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bei auch bestehenden Fachpartnern die Vermarktung wesentlich erleicht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e Produktoptimierung nach den Markterforderni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gelungs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echnische Verbesserungen (Vereinfachung, weniger Verschleißteil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ung der 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chließung neuer Märkte in Europ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rreiter Notstromversorgung: Unabhängige Stromversorgung durch Insellösungen in Gebieten in denen die Stromnetze nicht so zuverlässig / stabil si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instellung in diese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wimmbad für optimalen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lexibler Einsatz durch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ständige Finanzierung über KfW-Kred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lose Ergänzung des vorhandenen Gas-Heiz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ätzlicher Erlös durch Stromverkauf an die Mie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coisland Insellösung für abgelegene Objekte ohne Stromnetz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chnologieführer im 5 kW Segment (elektrische Leistung) der dezentra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rtschrittliche Fern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schrittliches und ausgereift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duktleistung und –qualität werden fortlaufend kontrolliert und optim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ge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undesweiter Vertrieb über Partner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tz von autorisierten und qualifizierten Fachbetrieb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mfassende Herstellerunterstützung (Vertrieb, Marketing, Servic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abhängigkeit und Sicherheit durch „eigenes Stromnetz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ft Verbundlösungen die zusammen addiert ideale Voraussetzungen bie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haltigkeit = Zukünftige Generationen sollen die gleichen Möglichkeiten und Voraussetzungen haben wie wi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ilt insbesondere in Bezug auf die zur Verfügung stehenden Ressourc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: Steigender Energieverbrauch bei gleichzeitig sinkenden Vorräten fossiler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nicht dem Nachhaltigkeitsgedank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och vorhandene Reserven an fossilen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 Basis des gegenwärtigen Verbrauchs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döl - 4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 - 66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einkohle - 25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eigt der Verbrauch weiter wie bisher, werden die Vorräte noch früher erschöpft sei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ngfristig wird Energie kost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 Energieerzeugung ist daher ein wichtiger Baustein für eine nachhaltige Entwick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die Verbrennung von Kohle, Öl und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otz Kyoto-Protokol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iel: Industriestaaten verringern ihre Emissionen der sechs wichtigsten Treibhausgase bis zum Zeitraum 2008 bis 2012 insgesamt um mindestens fünf Prozent gegenüber 1990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reibhausgase führen zur Aufheizung der Atmosphä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lgen in den nächsten 100 Jahren bei gleichbleibendem Tre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mperaturerhöhung um 2 bis 5 °C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eeresspiegel steigen um 10-90 c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wirkungen sind heute schon zu spür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äufigere Dürren, Stürme und Überschwemmunge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Hochwasser-Katastrophe 2002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New Orlean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duktion der Emissionen erforder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fragt sind daher Ansätze, die es ermöglichen Energie einzusparen und effizienter zu nutz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ezentrale Mini-BHKWs reduzier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re Energieerzeugung durch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der Stromerzeugung entstehende Abwärme wird direkt vor Ort 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r Warmwasserbereitung und Hei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von über 9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mgegenüber steh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 Verluste bei der konventionel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trennte Erzeug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romerzeugung im Großkraft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wärme un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schnittlicher Wirkungsgrad 37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kommen Leitungs- und Transport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us Wärmeerzeugung dezentral mit de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Ŋ(el) von 36% und Ŋ(th) von 85%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&lt; 6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ni-BHKWs tragen zum Klima- und Ressourcenschutz bei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niger Energieverbrauch zur Bereitstell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achhaltigere Nutzung der schwindenden Rohstoffvorrä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enk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 Brennstoffausnutzung ermöglicht parallel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 um bis zu 60%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ektivste Stromerzeugungstechnologie, gemessen an der erreichbaren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Minderung pro eingesetztem Euro (ASU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s leisten wesentlichen Beitrag zum Umwelt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ut Bundesregierung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sentliche Voraussetzung, um die mittel- und langfristigen Klimaschutzziele zu erreich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 diesem Grund wird die effiziente Energieerzeugung mit Mini-BHKWs auch von staatlicher Seite geförd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ECFC-5765-4B3A-B169-866781A1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ECDD-2462-4C8A-8684-7547592C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43C-428C-4317-8559-24AC4205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B084-7D0E-40A8-89D8-D80FF381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85E4-B964-4C2B-A99C-E9910FB1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D77D-B9EA-4E19-AE25-EDF14A1D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802B-1557-4E54-8256-F98A90D6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BD7C-22D0-434C-8674-AFB68008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1035-0BF1-4395-9D08-FD7FA5D9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9C2D-A9A8-4846-BBFE-3EA4C17D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7710-6AD8-4735-8616-50614448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2BE-2AF9-4260-84EC-BE594B6A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9244-FAAE-4578-B4A5-BE7BDC7C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8AF3-978A-4D5F-BD79-FC6984BC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E45E-6118-4DC2-AD0C-2A1FC93C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A737-9322-4B2C-8543-D0766904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512A-3795-43EA-89A3-1EAA7F69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C53-C9FA-4ABE-9650-4E2D545A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AAF-F456-4F31-83F3-73268A1E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0D7-CE47-4102-8E52-A64DB4DF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8F2-1290-4FFC-87E9-A0E8F294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03B-0D61-4C20-BC3F-75593FF6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11B-2D85-4D6D-956E-D0769F53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E95-020A-4E3C-8F61-FB03901A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C05C-F454-4E08-BA82-AA65EA97F0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B42D-5AF9-4730-BBFE-DE42CD8402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as intelligente System fü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dezentrale Strom- und Wärm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"/>
          <p:cNvSpPr/>
          <p:nvPr/>
        </p:nvSpPr>
        <p:spPr>
          <a:xfrm>
            <a:off x="5198760" y="4495680"/>
            <a:ext cx="315720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Fasaneninsel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07549 G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Tel. 0365-83040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www.ecopow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355284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ördermittel nutz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ine Strom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,05 Cent/kW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tattung Mineralöl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0,55 Cent/kWh (Erdgas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onus: 5,11 Cent/kWh zusätzli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setzlich festgelegten Vergü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8280" y="1981080"/>
            <a:ext cx="258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kosten spar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725" r="0" b="14287"/>
          <a:stretch/>
        </p:blipFill>
        <p:spPr>
          <a:xfrm>
            <a:off x="609480" y="1838160"/>
            <a:ext cx="792504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 ecopower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, Gesundheits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6387" r="0" b="0"/>
          <a:stretch/>
        </p:blipFill>
        <p:spPr>
          <a:xfrm>
            <a:off x="5413320" y="2057400"/>
            <a:ext cx="2995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ortschrittliche und ausgereifte 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dukteigenschaften ecopower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unktionsweis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ung entstehender Abwärme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eizung und Warmwasserberei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48280" y="1981080"/>
            <a:ext cx="3486240" cy="420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Hauptkomponent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passung der Mini-BH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 an den tatsächlic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produk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irtschaftlicher Einsatz 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Objekten mit geringere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7089" t="16668" r="11406" b="7691"/>
          <a:stretch/>
        </p:blipFill>
        <p:spPr>
          <a:xfrm>
            <a:off x="4724280" y="1981080"/>
            <a:ext cx="3505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7279"/>
          <a:stretch/>
        </p:blipFill>
        <p:spPr>
          <a:xfrm>
            <a:off x="744480" y="1371600"/>
            <a:ext cx="7637400" cy="5257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normal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dulierend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novalenter Betrieb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 (Mini-BHKW)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s und kostensparen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ystem für die dezentral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erzeu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t patentierter Leistungsmodulation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manentmagnet-Genera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Wirkungsgrad üb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amten Leistungsbere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gelung Motordrehzahl erfolg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Last des Generator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elektronik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ulsweitenmodulier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as-Verbrennungsmo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iedrige Emissionswerte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rei-Wege-Katalysator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mbda-Rege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48160" y="1981080"/>
            <a:ext cx="3186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start-Funk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chleißfreier, geräuscharm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 über den Generato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zierte Wartungskos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lasser und Batterie entf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höhte Betriebs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et unter erschwer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rgänzende Produkteigenschaf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zielles Wärme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alldämmgehäus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tspricht höchsten Sicherheit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schriften (CE-Zertifiziert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rallelbetrieb mehrer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24280" y="2054160"/>
            <a:ext cx="3810240" cy="3203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island - Insellös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arke Energie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etzfreie Gebie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chere Strom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Netz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Bieten Sie Ihren Kunden Mehrwert!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 und schneller Zuga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 einem neuen Geschäftsfeld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 neues Geschäftsfeld für Fachhandwerke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, schneller Zugang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umfassende Unterstütz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ttbewerbsvorteil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014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bindung in die Gebäude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4051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Elektrisches Blockschema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7281" r="0" b="0"/>
          <a:stretch/>
        </p:blipFill>
        <p:spPr>
          <a:xfrm>
            <a:off x="152280" y="1981080"/>
            <a:ext cx="88394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Installation und Inbetriebnahm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3914" r="7692" b="4757"/>
          <a:stretch/>
        </p:blipFill>
        <p:spPr>
          <a:xfrm>
            <a:off x="457200" y="1676520"/>
            <a:ext cx="7696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schich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5-1998 Produktentwicklung (Schweiz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9240" y="20574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Fortschrittliches Steuer- und Regelungssyste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matische Anpassung a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ergiebedarf des Objekte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tegrierte selbstlernfähig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icherbewirtschaf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e Ausnut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dulationsbereich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Eigenschu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9481" t="0" r="0" b="0"/>
          <a:stretch/>
        </p:blipFill>
        <p:spPr>
          <a:xfrm>
            <a:off x="4495680" y="2066760"/>
            <a:ext cx="4038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ringer Wartungsaufwan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 alle 4000 Betrieb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unden bzw. einmal im Ja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chsel von Öl, Filtern und Zünd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rze sowie Abgasmess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mfortable Wart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oftware ecoServ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62640" y="1981080"/>
            <a:ext cx="3071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triebsstruktu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94360" y="1981080"/>
            <a:ext cx="3135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Serviceorganis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ische Service-Hotlin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 – Do 7:00 bis 19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a 10:00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Werkskundendienst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örungsbeseitigung, Inbetrieb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hme und Wartungsarbei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781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ntinuierliche Sich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rodukt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prüfung Produktleist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ter 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9000" t="0" r="33003" b="0"/>
          <a:stretch/>
        </p:blipFill>
        <p:spPr>
          <a:xfrm>
            <a:off x="4896000" y="220032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spektiv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Fachpartnerne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e Produktoptimi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 Markterforderniss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chließung neuer Märkt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Europ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9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eubau Einfamilienhaus mit Schwimmba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mmbad für optima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lexibler Einsatz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ständige Finanzier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KfW-Kred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5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3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3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56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52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48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6,5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5807" r="0" b="7077"/>
          <a:stretch/>
        </p:blipFill>
        <p:spPr>
          <a:xfrm>
            <a:off x="4724280" y="198108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Modernisierung Zweifamilienhau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blemlose Ergän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handenen Gas-Heizkess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ätzlicher Erlös durch Strom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kauf an die Miet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3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6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4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1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1.77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11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6796" r="0" b="0"/>
          <a:stretch/>
        </p:blipFill>
        <p:spPr>
          <a:xfrm>
            <a:off x="4724280" y="1981080"/>
            <a:ext cx="3502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Freizeitsek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78,9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22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13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84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09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,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3960" y="4267080"/>
            <a:ext cx="17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05320" cy="228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ologieführer im 5 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egment (elektrische Leistung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dezentralen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schrittliches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gereiftes Produk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Vertrie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124440" cy="203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1244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Gewerbebetrieb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72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28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991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.44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36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93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4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0280" y="42670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Tischler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6817" t="4768" r="7956" b="15436"/>
          <a:stretch/>
        </p:blipFill>
        <p:spPr>
          <a:xfrm>
            <a:off x="4572000" y="1981080"/>
            <a:ext cx="37339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Gesundheits- und Pflegebereic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6,7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01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45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309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6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0,8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1560" y="4267080"/>
            <a:ext cx="25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Fitness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160344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rcRect l="0" t="0" r="14577" b="0"/>
          <a:stretch/>
        </p:blipFill>
        <p:spPr>
          <a:xfrm>
            <a:off x="6705720" y="1981080"/>
            <a:ext cx="160020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öffentlichen Einrichtung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0,1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.165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50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.23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3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66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9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120" y="426708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Kirchliche Einri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0" t="11363" r="0" b="0"/>
          <a:stretch/>
        </p:blipFill>
        <p:spPr>
          <a:xfrm>
            <a:off x="5029200" y="1981080"/>
            <a:ext cx="3276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ffizient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als vorteilhafte Alternativ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trennten Erzeugung 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achhaltig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gender Energieverbrauch –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nkende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och vorhandene Reserv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 fossilen Energieträger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döl - 4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 - 66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nkohle - 25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 Energie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achhaltige Entwick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2050920"/>
            <a:ext cx="365760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882" t="0" r="11764" b="0"/>
          <a:stretch/>
        </p:blipFill>
        <p:spPr>
          <a:xfrm>
            <a:off x="4567320" y="1905120"/>
            <a:ext cx="3967200" cy="4190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änderung des Weltklima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reibhausgase führen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fheizung der Atmosphä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mperaturerhöh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2 bis 5 °C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eeresspiegel steig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10-90 c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äufigere Dürren, Stürm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Überschwemm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 effizienter selbst erzeug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reduzieren d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märenergieverbr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mehr als ein Dritt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oppelt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gesetzten Energi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 Verluste bei konv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ioneller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trennte 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2674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Direkten Beitrag zum Umweltschutz leis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tragen zum Klima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Ressourcenschutz bei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haltiger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ndenden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bis zu 60% mögl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75320" y="1981080"/>
            <a:ext cx="2959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8:28:58Z</dcterms:created>
  <dc:creator>Tim Geßler</dc:creator>
  <dc:description/>
  <dc:language>en-US</dc:language>
  <cp:lastModifiedBy>brybicki</cp:lastModifiedBy>
  <dcterms:modified xsi:type="dcterms:W3CDTF">2005-10-27T15:04:05Z</dcterms:modified>
  <cp:revision>69</cp:revision>
  <dc:subject/>
  <dc:title>  </dc:title>
</cp:coreProperties>
</file>