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DF4FB-C95B-40A9-A8A9-2835874E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D196-0799-4F31-B9F3-F174A96F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9CE40-B0E8-4034-B043-49F6FF18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40BDC-62C3-4EA2-8744-FEB1A2D9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2CB1-7305-4D94-A208-4FE69147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23DE-3127-4315-A51A-C51DA261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16D7-5B12-4064-9CA4-408EDA9D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4A20-EBF9-4D6C-8681-F5DED38A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C208-72C3-48B9-A1AF-7DE2C4E8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26BB-ABCD-4781-B73F-7842B2BD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EBFE-A23E-4797-88E7-3AE6B262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0CC9-D61E-4B4E-8155-1A62F2DE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2299-7C56-4AFC-A03C-6FB3C3DA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403C-D863-4270-BC77-D36ECB21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7031-1DF8-4182-B025-1BCBDAA0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EDBE-8FB1-4704-B171-B9B18946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5D98-5215-48DE-A9D6-25C6CF95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0EE1A-B2BF-458D-A94E-AC9BF616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6145C-8C9B-4988-BE53-8BC408EC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185C6-5D0C-485E-8C15-38549FDE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BD5FB-8693-4871-B75D-A08E33B3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0A160-7F2A-4083-A413-40D66EAA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3B059-9D53-4509-9EE8-D6425B38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EFE41-0297-470F-B2B3-B7BCD783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871E-9948-487A-81AD-62D800BBE4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4606-BF18-4EF4-B446-DE285BE4DA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1341000"/>
            <a:ext cx="6019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ndlage der landesweiten Evaluation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314172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novationsvorhaben: Erarbeitung eines Konzeptes fü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die praktische Ausbildung in der Berufsfachschule Sozial-assistent/-in und in der Fachschule Sozialpädagogi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Innovationsvorhaben: Landesweite Evaluation des eingeführten Konzeptes für die praktische Ausbildung angehender Erzieherinnen und Erzieher am Lernort Prax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her Stellenwert der praktischen Ausbild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sive Kooperation zwischen den Lernorten Schule und Prax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he Akzeptanz der im Leitfaden vorgeschlagenen Inhalte und Formen der praktischen Ausbildung in den Schul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Innovationsvorhaben: Landesweite Evaluation des eingeführten Konzeptes für die praktische Ausbildung angehender Erzieherinnen und Erzieher am Lernort Prax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itliche Vorgaben werden nur von einem Viertel der befragten Schulen als ausreichend eingeschätz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forderte Anzahl von Ausbildungsbesuchen wird bisher nur teilweise erreich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tik, dass Fahrzeiten nicht als Arbeitszeit anerkannt und die notwendigen finanziellen Aufwendungen der Fahrten nicht angemessen ersetzt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lass des MK vom 06.05.2004: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chluss der Erarbeitung eines Konzeptes für die praktische Ausbil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eitfaden für die praktische Ausbildung am Lernort Praxis (Handreichu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ommentar zum Leitfaden für die praktische Ausbil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novationsvorhaben: Erarbeitung eines Konzeptes für die praktische Ausbildung in der Berufsfachschule– Sozialassistent/-in und Fachschule – Sozialpädagogik –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novationsvorhaben: Erarbeitu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ines Konzeptes für die praktische Ausbildung in der Berufsfachschule – Sozialassistent/-in und Fachschule – Sozialpädagogik –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haltliche Standa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entrales Element des Ausbildungs-unterrichts bildet der Ausbildungsbesuc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lanung, Durchführung und Reflexio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ädagogischer Handlungsansätz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stellen den verbindlichen Schwerpunkt jedes Ausbildungsbesuchs d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ädagogische Handlungsansätz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der sozialpädagogischen Praxiseinrichtung im Zusammenhang der konzeptionellen Rahmenbedingung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onen bzw. pädagogisches Handeln innerhalb einer Freispielpha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ät, die für sich oder im Kontext eines Rahmenthemas steh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ktph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novationsvorhaben: Erarbeitung eines Konzeptes für die praktische Ausbildung in der Berufsfachschule – Sozialassistent/-in und Fachschule – Sozialpädagogik –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ufsfachschule Sozialassistent/-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. sechs Ausbildungsbes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hschule – Sozialpädagogik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destens vier Ausbildungsbesuc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praktische Prüfung ist kein Ausbildungsbesu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novationsvorhaben: Erarbeitung eines Konzeptes für die praktische Ausbildung in der Berufsfachschule – Sozialassistent/-in und Fachschule – Sozialpädagogik –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itlich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undsätzliche Formel für d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ufsfachschule Sozialassistent/-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 für die Fachschule – Sozialpädagogi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½ Unterrichtsstunde pro Schülerin/Schüler p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che praktischer Ausbil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novationsvorhaben: Erarbeitung eines Konzeptes für die praktische Ausbildung in der Berufsfachschule – Sozialassistent/-in und Fachschule – Sozialpädagogik –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Berufsfachschule Sozialassistent/-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840 Std. praktische Ausbildung =            22 Wochen (38,5 Std.)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2 x ½ = 11 U.Std = 20 Zeitstunden Ausbildungsunterricht für eine Schülerin in zwei Jahren Berufsfachsch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novationsvorhaben: Erarbeitung eines Konzeptes für die praktische Ausbildung in der Berufsfachschule – Sozialassistent/-in und Fachschule – Sozialpädagogik –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Fachschule – Sozialpädagogik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600 U.Std. praktische Ausbildung =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6 Wochen (38,5 Std.)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6 x ½ = 8 U.Std = 15 Zeitstunden Ausbildungsunterricht für eine Schülerin in zwei Jahren Fachsch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novationsvorhaben: Erarbeitung eines Konzeptes für die praktische Ausbildung in der Berufsfachschule – Sozialassistent/-in und Fachschule – Sozialpädagogik –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2916000" y="170028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novationsvorhaben: Landesweite Evaluation des eingeführten  Konzeptes fü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 praktische Ausbildung angehender Erzieherinnen und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Erzieher am Lernort Pr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5:08:38Z</dcterms:created>
  <dc:creator>Holger Küls</dc:creator>
  <dc:description/>
  <dc:language>en-US</dc:language>
  <cp:lastModifiedBy>Duennewald</cp:lastModifiedBy>
  <dcterms:modified xsi:type="dcterms:W3CDTF">2007-05-08T08:57:29Z</dcterms:modified>
  <cp:revision>14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55023352</vt:r8>
  </property>
  <property fmtid="{D5CDD505-2E9C-101B-9397-08002B2CF9AE}" pid="3" name="_AuthorEmail">
    <vt:lpwstr>Doris.Hadasch@mk.niedersachsen.de</vt:lpwstr>
  </property>
  <property fmtid="{D5CDD505-2E9C-101B-9397-08002B2CF9AE}" pid="4" name="_AuthorEmailDisplayName">
    <vt:lpwstr>Hadasch, Doris</vt:lpwstr>
  </property>
  <property fmtid="{D5CDD505-2E9C-101B-9397-08002B2CF9AE}" pid="5" name="_EmailSubject">
    <vt:lpwstr>NiLS.doc</vt:lpwstr>
  </property>
  <property fmtid="{D5CDD505-2E9C-101B-9397-08002B2CF9AE}" pid="6" name="_PreviousAdHocReviewCycleID">
    <vt:r8>-1664000696</vt:r8>
  </property>
</Properties>
</file>